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F0E-C0F8-400C-9A66-978E72B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610-EBC2-41E8-916B-F0CF0379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C9D-52A2-4640-A378-ED342C13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04B-97B2-48D9-955B-78D4DB05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A6CA-B327-4F29-B935-9831774D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9FEE-C8EA-467A-9CDE-3844FE22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1A5B-0F93-41CB-991F-17996082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B7F6-974E-4BB0-B46A-2077CADB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A48-DEEB-4FDC-8D61-21B77008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1983-0032-4614-8A87-D01C87C0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18FA-63D4-4A1D-B22A-BC4A0433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8CB-C4D8-497A-9C85-9821218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515C-9A4B-4025-A503-D4C9123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EE01-C06D-4144-8DE0-172B68B9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5455-5138-4681-A26D-3D77C261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C2CC-3DC2-4031-8C96-805E42EE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24C7-4E4F-4DEA-8B2E-C15E1197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1767-F1A5-4BE5-9476-1C4EB740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139-BDED-440A-ABE7-0512383B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40AB-EF5A-4722-9128-F23BB136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820-9B19-4B3E-9D36-AEAEAE0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48B-96F5-4C6D-8E8E-10C7DBD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788-78FE-4163-B52A-76C23298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DD1-DAF8-4CFA-A71F-54753FA9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FA23-3615-49E8-BE1D-A5D6C4E36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C54-533F-46C3-B52B-09F3C2D8D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journée incroy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8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Tous les jours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se promener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8840" y="434340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e me promena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9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Hier soir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boire) un chocolat chau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71080" y="434340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i 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10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Tout à coup, il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mourir) de rire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997360" y="449568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 est mo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TOTA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oints: ?????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Dire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ez le verbe au temps correct</a:t>
            </a: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: Imparfait ou passé compos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ttention, aux mots c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2 points par phrase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 vous avez le temps correct = 1 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i votre verbe est conjugué correctement = 1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Tout à coup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voir un accident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343680" y="4446720"/>
            <a:ext cx="176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 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2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D’habitude, j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sortir le samedi soir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737160" y="4800600"/>
            <a:ext cx="25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 sorta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3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La semaine dernière, nous..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(prendre) le train pour NY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64680" y="4578480"/>
            <a:ext cx="34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us avons pr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4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Souvent, on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s’amuser) à la plag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17320" y="4648320"/>
            <a:ext cx="30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n s’amusa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5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Lundi, ils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arriver) en retard à l’écol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92920" y="44956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s sont arriv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6.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696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Soudain, nous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tomber) dans les escali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591640" y="4114800"/>
            <a:ext cx="50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us sommes tombé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7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0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De temps en temps, elle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ffff"/>
                </a:solidFill>
                <a:latin typeface="Arial"/>
              </a:rPr>
              <a:t>(faire) ses devoi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583080" y="4807080"/>
            <a:ext cx="25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e faisa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20:49Z</dcterms:modified>
  <cp:revision>90</cp:revision>
  <dc:subject/>
  <dc:title>Allez, viens! – Level 2</dc:title>
</cp:coreProperties>
</file>